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8BE8-720C-4A27-9CD8-C962CE699B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092D-8720-4BA1-BFF4-05C6EE490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114A-0E11-4890-85B5-58C8B616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5240-4C8C-4864-B46A-36B9D757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9220-D73E-4B4F-922E-F9A0E3F1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6C60-2356-4515-B183-22398BFF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78FB-7D07-408B-A2F4-7F868883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9E1B-509B-4E6E-8057-5700ECBE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0A3B-C0EE-4FA1-9FB7-C4EF781E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1647-4E09-487C-B253-82872D1D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4518-EEE8-4444-9949-B3AB6F6A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417E-EDBA-4F41-8C69-D058A852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2E3B-9E1D-4A55-BDCC-FD2A6F8C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B058-FE73-42B2-A59A-C2EF76AF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D050-7497-4ACC-98DA-839DDB3F91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fes-framework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aming the Tower of Babel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ftware Assurance Findings Expression Schema (SAFES) Framewor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an Barn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6 June, 20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tential 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280" y="1768320"/>
          <a:ext cx="8763120" cy="5089680"/>
        </p:xfrm>
        <a:graphic>
          <a:graphicData uri="http://schemas.openxmlformats.org/drawingml/2006/table">
            <a:tbl>
              <a:tblPr/>
              <a:tblGrid>
                <a:gridCol w="1298520"/>
                <a:gridCol w="7464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y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e vehicle of publication (IP contro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y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transforms to and from native sch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e SAFES to a more stable and permanent web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comprehensive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authoring/editing too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report generation too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lot a real project using SAF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ine schema to add more tools within the initial 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actor schema for efficiency and redundancy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alignment between SAFES and KDM, ARM, SAEM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lize schema infrastructure (e.g. XMI compliant) for improved automation interchange and enabling framework laye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ine schema to add new tools outside the initial 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day’s Challe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2057400"/>
            <a:ext cx="8686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standard reporting format for SwA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combine results of multi-perspective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combine results of multi-tool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inefficient for tool vendors looking to integrate results with other tools (very costly and redundan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trend across assessments from different tools or analy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automate meta-analysis and the assessment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Framework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ftware Assurance Findings Expression Schema (SAF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 1 (v0.1) sponsored by the NSA Center for Assured Software (C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 and encourage consistency in software assurance tool and service 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ablish more structured and effectively useful software assurance tool and service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 integration of results from multiple software assurance tools 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 automated processing of software assurance tool and service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 from state of the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 with state of the 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 a comprehensive schema covering all aspects of software assurance analysis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ive for usability, flexibility and exte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ure towards form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Initial 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-scope perspectives for initial effort (v0.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ic source code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ic binary code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 application penetration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securit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z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a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chitectural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vendors actively collaborating others were passively incorpo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3123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fin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tegor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re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analysis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ol or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tection 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4876920" y="3048120"/>
            <a:ext cx="3809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mi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meta-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ructure, content &amp;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usiness/mission and security con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assuranc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threa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457200" y="20574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FES is a comprehensive and detailed 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Sampling of Potential Use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057400"/>
            <a:ext cx="38862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derstand the Business Context of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p technical risks to business co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p the application attack su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relevant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ventory and characterize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threat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fine FISMA security categorization (FIPS-1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SMA Security Planning (SP800-1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SMA Risk Assessment (SP800-3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duct multi-tool/multi-perspective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false posi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racterize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ioritize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Content Placeholder 2"/>
          <p:cNvSpPr/>
          <p:nvPr/>
        </p:nvSpPr>
        <p:spPr>
          <a:xfrm>
            <a:off x="4876920" y="2133720"/>
            <a:ext cx="38862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rrelate find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itch dynamic &amp; static location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grate automated and manual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use common mitigation ad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assessment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different versions of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fine an assurance case for an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an assurance case compliance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mport CWE content into local 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common finding trends across portfolio by technology 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intain analysis accoun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trends in tool and rule effic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pping between various tool level defin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Maturation Paths Beyond v0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FES Maturation Path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ability: primarily focused on efforts surrounding the schema to make it more usable by the community such as native transforms, tooling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inement: primarily focused on improving the quality and coverage of the schema itself with activities such as adding new perspectives, adding new schemas, fixing error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malization: primarily focused on gradually (as quickly as is prudent and accepted by the targeted user community) incorporating in formal standards-based approaches (vocabulary, structure, etc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0.1 completed and now available on the SAFES websit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afes-framework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working with sponsor to finalize decision of next steps to pur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ing up new supporters/spon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with various stakeholders in the community to support their use of SAFES and elicit their collab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7:04:33Z</dcterms:created>
  <dc:creator>Sean Barnum</dc:creator>
  <dc:description/>
  <dc:language>en-US</dc:language>
  <cp:lastModifiedBy>Administrator</cp:lastModifiedBy>
  <dcterms:modified xsi:type="dcterms:W3CDTF">2010-06-14T17:31:32Z</dcterms:modified>
  <cp:revision>2</cp:revision>
  <dc:subject/>
  <dc:title>Taming the Tower of Babel: Software Assurance Findings Expression Schema (SAFES) Framework </dc:title>
</cp:coreProperties>
</file>